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4B4-9FE7-4544-920A-8768D944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3E8-F03A-4E31-AAD7-78DE2D94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C11-9DCC-46D4-B7FD-35E18B3E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F50-8E2C-434F-9016-76EF7087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4E4-85FB-4385-B833-F6CA28BC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F78-A7F8-4D40-AD95-CED0A80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F44-27A5-4BF8-84C0-A159DA84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A6C-ED89-4BFF-97FC-94FE965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EF5-66CA-47A4-B377-7150D5BF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203-F21B-4931-95B4-75EED24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DD5-491D-4B59-9DAA-D53AB14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EA2-C6C2-4503-9FC6-7C1D93D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08D-A7E3-4418-9D5E-277DFDEC8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1989000"/>
            <a:ext cx="6913800" cy="208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ltri d'amore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cc"/>
                </a:solidFill>
                <a:latin typeface="Arial"/>
              </a:rPr>
              <a:t>Nelle favole c'è un filtro magico che ti fa addormentare. Ti svegli e ti innamori della prima persona che vedi. È la più geniale metafora dell'amore che sia stata concepita. L'amore è cieco, inspiegabile e crudele. Ed è anche precario. Nulla di così insensato può mai durare a lungo. </a:t>
            </a:r>
            <a:r>
              <a:rPr b="1" i="1" lang="it-IT" sz="3200" spc="-1" strike="noStrike">
                <a:solidFill>
                  <a:srgbClr val="ff33cc"/>
                </a:solidFill>
                <a:latin typeface="Arial"/>
              </a:rPr>
              <a:t>(Acqua di mare di Charles Simmons)</a:t>
            </a:r>
            <a:r>
              <a:rPr b="0" lang="it-IT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li antichi per sedurre un uomo o una donna erano soliti ricorrere a stratagemmi vari quali sacrifici alle divinità, ai famigerati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Amatoria pocula</a:t>
            </a:r>
            <a:r>
              <a:rPr b="0" i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’antica Roma erano filtri d’amore considerati potenti veleni e il loro utilizzo malefico era già vietato nelle antiche leggi delle XII tavole (V secolo a. C.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11164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751120" cy="49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4149720"/>
            <a:ext cx="38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 nuz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620640"/>
            <a:ext cx="3240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ere di mi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imperatore Caligola impazzì a causa di un filtro d’amore somministratogli dalla moglie Ces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eta Lucrezio, autore dell’opera filosofica "De rerum natura", si pensa fosse stato vittima di un potente filtro d’a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o Lucrezio C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iltro d’amore è una della più antiche forme di magia attestate nel mondo an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a che agiva soprattutto attraverso le componenti del filtro, che miravano a legare chi lo beveva alla persona  che lo invi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089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tano e Isot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59756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EO E GIULIET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A Midsummer Night's Dream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2808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5:45:48Z</dcterms:created>
  <dc:creator>user</dc:creator>
  <dc:description/>
  <dc:language>en-US</dc:language>
  <cp:lastModifiedBy>user</cp:lastModifiedBy>
  <dcterms:modified xsi:type="dcterms:W3CDTF">2012-05-15T17:13:14Z</dcterms:modified>
  <cp:revision>2</cp:revision>
  <dc:subject/>
  <dc:title>Diapositiva 1</dc:title>
</cp:coreProperties>
</file>